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250920" y="907920"/>
            <a:ext cx="649080" cy="64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3040" y="6424560"/>
            <a:ext cx="70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OHIM-ITFMD-ITA – WIPO/SDWG - XML Task Forces’Informal Meeting, ST66 Implementations at OHIM - October 23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57360" y="6424560"/>
            <a:ext cx="13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A017E61-2489-4B65-8BAB-34E607FB5A7F}" type="slidenum">
              <a:rPr b="0" lang="en-I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a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05264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48104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91772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34936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349360" indent="-457200">
              <a:spcBef>
                <a:spcPts val="7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349360" indent="-457200">
              <a:spcBef>
                <a:spcPts val="7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hyperlink" Target="http://demo.oami.europa.eu/trademark/data/EM50000000000001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hyperlink" Target="http://tm-xml.org/TM-XML/TM-XML_xml/TM-XML_Implementations.xml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oami.europa.eu/en/erenew.htm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9640" y="3213000"/>
            <a:ext cx="8061120" cy="722160"/>
            <a:chOff x="539640" y="3213000"/>
            <a:chExt cx="8061120" cy="722160"/>
          </a:xfrm>
        </p:grpSpPr>
        <p:sp>
          <p:nvSpPr>
            <p:cNvPr id="42" name=""/>
            <p:cNvSpPr/>
            <p:nvPr/>
          </p:nvSpPr>
          <p:spPr>
            <a:xfrm>
              <a:off x="609480" y="32130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9640" y="32860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539640" y="4005360"/>
            <a:ext cx="8061120" cy="722160"/>
            <a:chOff x="539640" y="4005360"/>
            <a:chExt cx="8061120" cy="722160"/>
          </a:xfrm>
        </p:grpSpPr>
        <p:sp>
          <p:nvSpPr>
            <p:cNvPr id="45" name=""/>
            <p:cNvSpPr/>
            <p:nvPr/>
          </p:nvSpPr>
          <p:spPr>
            <a:xfrm>
              <a:off x="609480" y="400536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9640" y="407844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9640" y="4797360"/>
            <a:ext cx="8061120" cy="722160"/>
            <a:chOff x="539640" y="4797360"/>
            <a:chExt cx="8061120" cy="722160"/>
          </a:xfrm>
        </p:grpSpPr>
        <p:sp>
          <p:nvSpPr>
            <p:cNvPr id="48" name=""/>
            <p:cNvSpPr/>
            <p:nvPr/>
          </p:nvSpPr>
          <p:spPr>
            <a:xfrm>
              <a:off x="609480" y="479736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9640" y="487044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39640" y="5589720"/>
            <a:ext cx="8061120" cy="722160"/>
            <a:chOff x="539640" y="5589720"/>
            <a:chExt cx="8061120" cy="722160"/>
          </a:xfrm>
        </p:grpSpPr>
        <p:sp>
          <p:nvSpPr>
            <p:cNvPr id="51" name=""/>
            <p:cNvSpPr/>
            <p:nvPr/>
          </p:nvSpPr>
          <p:spPr>
            <a:xfrm>
              <a:off x="609480" y="558972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9640" y="566280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39640" y="2421000"/>
            <a:ext cx="8061120" cy="722160"/>
            <a:chOff x="539640" y="2421000"/>
            <a:chExt cx="8061120" cy="722160"/>
          </a:xfrm>
        </p:grpSpPr>
        <p:sp>
          <p:nvSpPr>
            <p:cNvPr id="54" name=""/>
            <p:cNvSpPr/>
            <p:nvPr/>
          </p:nvSpPr>
          <p:spPr>
            <a:xfrm>
              <a:off x="609480" y="24210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9640" y="24940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41440" y="1627200"/>
            <a:ext cx="8061120" cy="722160"/>
            <a:chOff x="541440" y="1627200"/>
            <a:chExt cx="8061120" cy="722160"/>
          </a:xfrm>
        </p:grpSpPr>
        <p:sp>
          <p:nvSpPr>
            <p:cNvPr id="57" name=""/>
            <p:cNvSpPr/>
            <p:nvPr/>
          </p:nvSpPr>
          <p:spPr>
            <a:xfrm>
              <a:off x="611280" y="16272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1440" y="17002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932040"/>
            <a:ext cx="7162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.66 Implementations at O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9400" y="1837440"/>
            <a:ext cx="78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M-Search Web Services: Trade Mark Search and Data Retrieval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9040" y="262980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ice Classification Term Information Ex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6520" y="3421800"/>
            <a:ext cx="40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Community Trade Mark Key-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6880" y="579852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B2B E-Filing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2280" y="4941000"/>
            <a:ext cx="78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uroClass-Term Information Exchange (Verification-Validation-Transl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240" y="421416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CTM-Dow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32000" y="907920"/>
            <a:ext cx="756108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907920"/>
            <a:ext cx="82090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.66 Based Trade Mark Retrieval Web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846440"/>
            <a:ext cx="8064360" cy="6476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062080"/>
            <a:ext cx="8064360" cy="719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179712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rade Mark Retrieva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3"/>
          </p:cNvPr>
          <p:cNvSpPr/>
          <p:nvPr/>
        </p:nvSpPr>
        <p:spPr>
          <a:xfrm>
            <a:off x="755640" y="22068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http://demo.oami.europa.eu/trademark/data/EM5000000000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11280" y="2852640"/>
            <a:ext cx="8208720" cy="984240"/>
            <a:chOff x="611280" y="2852640"/>
            <a:chExt cx="8208720" cy="984240"/>
          </a:xfrm>
        </p:grpSpPr>
        <p:sp>
          <p:nvSpPr>
            <p:cNvPr id="74" name=""/>
            <p:cNvSpPr/>
            <p:nvPr/>
          </p:nvSpPr>
          <p:spPr>
            <a:xfrm>
              <a:off x="611280" y="290196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1280" y="3117960"/>
              <a:ext cx="806436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5640" y="285264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Trade Mark Image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5640" y="326232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image/5000000000000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11280" y="3933720"/>
            <a:ext cx="8208720" cy="984240"/>
            <a:chOff x="611280" y="3933720"/>
            <a:chExt cx="8208720" cy="984240"/>
          </a:xfrm>
        </p:grpSpPr>
        <p:sp>
          <p:nvSpPr>
            <p:cNvPr id="79" name=""/>
            <p:cNvSpPr/>
            <p:nvPr/>
          </p:nvSpPr>
          <p:spPr>
            <a:xfrm>
              <a:off x="611280" y="398304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1280" y="4199040"/>
              <a:ext cx="806436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5640" y="393372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Applicant Information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5640" y="434340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applicant/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11280" y="5013360"/>
            <a:ext cx="8208720" cy="984240"/>
            <a:chOff x="611280" y="5013360"/>
            <a:chExt cx="8208720" cy="984240"/>
          </a:xfrm>
        </p:grpSpPr>
        <p:sp>
          <p:nvSpPr>
            <p:cNvPr id="84" name=""/>
            <p:cNvSpPr/>
            <p:nvPr/>
          </p:nvSpPr>
          <p:spPr>
            <a:xfrm>
              <a:off x="611280" y="506268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1280" y="5278320"/>
              <a:ext cx="8064360" cy="71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5640" y="501336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Representative Information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542304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representative/1184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869880" y="147780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cc0000"/>
                </a:solidFill>
                <a:latin typeface="Comic Sans MS"/>
              </a:rPr>
              <a:t>Test -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3160" y="6021360"/>
            <a:ext cx="584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cc0000"/>
                </a:solidFill>
                <a:latin typeface="Comic Sans MS"/>
              </a:rPr>
              <a:t>Note: Only Authorized IP Addresses are Allowed to Use these Web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43280" y="2133720"/>
            <a:ext cx="4176720" cy="34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2133720"/>
            <a:ext cx="4176720" cy="34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932040"/>
            <a:ext cx="6946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440" y="2349360"/>
            <a:ext cx="3743280" cy="3024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2349360"/>
            <a:ext cx="3743280" cy="3024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9:21:40Z</dcterms:created>
  <dc:creator>Alexandre TRAN</dc:creator>
  <dc:description/>
  <dc:language>en-US</dc:language>
  <cp:lastModifiedBy>Yun</cp:lastModifiedBy>
  <dcterms:modified xsi:type="dcterms:W3CDTF">2007-10-23T07:20:05Z</dcterms:modified>
  <cp:revision>55</cp:revision>
  <dc:subject/>
  <dc:title>Slide 1</dc:title>
</cp:coreProperties>
</file>